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B2A-64EA-49BE-9230-65F63858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835-0E01-4FC8-A0C0-A05FA027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F96DA-F1BB-40F7-9AC4-CC952E72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E7425-C3A6-447C-8D74-BEC2459D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9F711-7145-47CA-90C1-64C304A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84614-E4E9-4AA6-A6D9-E4FB2938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D9145-9EFD-4738-A8DC-88C6D4E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5B395-DE43-4E8F-9CD4-5EB9F2F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5AD9A-5275-43CB-BC3C-8D2DF9A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6CD3F-9925-4A91-8B04-B105FE21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F0B03-9172-4CCF-872E-8D8768D1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AA670-88EA-480F-9F4D-BE88955E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2AB-4105-4834-8912-A8265F55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C56D9-A849-4262-B52C-585B7BDB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91A3A-A1DA-494A-987A-F2C8EC59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3D5D7-6A64-4603-9EF1-B2D33B20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FE4DC-C887-4FD6-A52D-F29A7F2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F204D-1FA0-43EA-B454-90B72737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87350-6870-4B10-B989-21C30746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9C910-7824-4EA1-A5A6-D18DF6F9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D34D8-4BCD-47E8-9A15-2A2F0B5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FBA5B-AD4D-480C-92C8-EB5C8A0B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83B86-3D18-4FB4-8CF8-1C177E47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0C4-B387-4CCD-A894-C32F81F7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AD365-5CBF-453A-AA6C-2F0CAA93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2B8D6-8304-4DFB-99EE-F022D198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268B4-63FA-4AE3-8B60-B5AC9888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36C96-96C1-4BDD-86C7-600DFB89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E0A4-3B00-46D4-89E3-1516E6FC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12A2-F0CD-4BF5-93C7-E5AB8E65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8708E-C154-4D87-A8C0-0BDD3685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71AF3-6D20-45F2-933C-D07EA5ED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794C9-E8FA-4F0E-A326-AAA17CB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00DC6-038B-4D0A-A22A-649DB7B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6A05-5D1A-4860-905E-0865CC5F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A3404-A0CA-4FE9-98D5-14D25497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274DB-26E7-4A5D-A02E-FF8ACC5B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A9FD2-2FA7-45AE-9142-5F2F8B71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3177E-45FB-46B7-87E6-9F89C54A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E5454-1E91-4331-B754-0F65CFBB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9B223-FD4F-4F97-AACC-9D205BCF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F68DC-26D9-48AC-B64A-A14EC1C2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75049-0D0C-4D37-9B3B-B5830A9A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C229C-2E11-45CE-B2C9-6BD3412E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03053-D2D1-4F96-ADDF-5BC663AC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B41D-B99C-42D6-B995-6E3B6E3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55EFD-CF52-4794-ADA5-857F058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59518-7006-4594-8420-BE9861E2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D4DF9-10C3-442F-989D-BA4023B0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E02AA-A8A7-413C-A1C4-C5D20C79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C2FE2-1981-4F85-B505-FC98B255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7D6ED-8CD8-482B-98B0-9B44FF61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DB120-D11A-465F-9D4B-E198414F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63243-5B90-4CC5-9846-A2BC86C9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3539B-3278-4250-B50D-51BF698F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D353C-C130-49F5-9BEF-60E5835A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2499-7C88-406E-92C6-8FD3AC4A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5073B-8239-4B3D-AC03-9E6AF678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B811B-E06F-40E9-B43D-371F1AFA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F7B9A-83D2-43C4-AD9D-ACC21B0B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15E23-0F4D-4DBF-84FF-0B1060CE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DFBEC-70AB-4C0E-812C-C7475388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0E9ED-E6DA-4575-9679-873EA06D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7A188-C9D0-48A2-BC32-917EF094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A2C2B-C60E-45C6-8E7E-AF574A29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79EBD-BE91-42C9-81EB-23D85CD4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5FE1C-33D2-4458-BEEA-C9F5CA01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3632-6E53-418E-987A-580B3CD6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A2AC9-463D-4A85-BED9-2D12B107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83AAC-2C54-4C7F-9FB8-C57473A9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94C43-CA61-474B-8C3D-86AEB1C5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0AECE-058F-471C-9474-C9A7119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3B7EE-7614-4DAE-9ACB-E9072702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AB65B-9506-4FB3-A4CA-BC665807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37AC2-A162-4722-A62D-8AFE85C4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2758B-4DE7-4510-9DCB-D29CB267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27A08-5F91-481F-9A70-138DD9E4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8FA98-7669-4C77-8750-1FE5DC2B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DB64-8400-4484-BF7B-F934BEAF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9968E-5247-4C18-96A5-01CA02F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F95D2-591E-4243-9649-251AEECA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A0066-E5D9-44B1-987A-BE0CBC25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2CDEA-233B-4E6C-9309-61B51A16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E5AAF-CAEA-422E-839A-E2635E3F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34576-DE66-44B4-9B3E-9987A15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8C4B9-B71B-442F-9A6D-35ABACA6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C1996-D6E2-4DC3-ADD4-F27B7B9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4BFC5-1E4B-4128-88AB-0B6CC2B0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D9FAF-CAAD-43D6-B039-21B0366E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8215-22D5-45F1-8E19-BCC933D5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EF184-1661-4782-9A8A-AFC6FBEB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5F587-014C-4D96-BB70-5CB1742B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2FBB5-9587-4488-96D2-EE1AA98B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5E76B-8B15-43DD-8EE4-24300C40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9C8D6-26F1-48B2-AC0C-6156353A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BA47B-9059-4189-8B49-557AE8E9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44C363-D534-4D73-8EF3-B2F28C42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2A667-271A-4F4D-A34A-2522396A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2287E-A14C-4CE7-9382-AE3EB3CD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63D86-B996-4F21-9FB8-AD5D4CC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04BE-85D8-418A-9F69-B870288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80024-7631-4CC2-B660-B21C6B2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986AC-A54C-42CB-9D71-E316D5EA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E0587-C0EA-4FD3-AE94-83B3D59D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9ABAF-59A1-40F0-9100-1D5EDC78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FA5BF-78BA-4AC3-9312-160D6A77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74A76-0937-4F46-81B3-BC204231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79D02-F2F5-42BC-8CFA-EBF2472B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A6247-EAD1-43E1-930F-26CAB236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49CFD-C70D-4B28-ABBD-408E5C56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B13A7-355A-42AB-8BDB-13EF777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A67-0B7F-4E8D-AE3A-C121AD8E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CA58-F853-4433-A51E-CAE5A019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9174D-3A41-49CF-AC5A-C19A5F6A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E546A-A6C1-42ED-B573-0370A110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BFF3A-E489-40C3-9160-F60535B3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0C4F7-08FA-408E-BA5B-01653ADC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78E15-CF70-419D-B4B1-29C19FD1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4BADD-4893-4F54-B83D-2CBB2978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BA57CC-804C-409A-B083-6AAF7952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5F4B8-6F06-4CB5-B0A5-E026AF16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4D4DD-59AE-405D-9466-A53091DB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92EB0-01E0-4417-8BD5-BA68C022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0631-BC70-47FF-8A36-7ABC48C9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1FA048-17B8-41AB-AEC5-5BD07EC4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BE9921-7FD9-4941-B171-87B05D3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2539E-74CD-4D21-BE6F-AB3C9D5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06E3F-E9E9-47DB-B800-4C1B0110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71DDC-DC5A-4155-8A4C-4319DFE4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FFF10-3EF1-4226-BADE-B577FA60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B4AA2-35AE-425F-919F-4D9D6734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42E00-02B4-431A-BAAC-3781C5A6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3155B9-37B0-46F0-8EB5-667D3D30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89FF8-12E7-4191-A632-C1E613AE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FF5C-0591-41F1-84C5-3426B21A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7EF5C5-A038-415A-9AF5-C5BD77E2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1CEF7-716D-4008-A08E-04DB3123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62045-D2A0-4479-8B74-5AB68D34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8A69C-C3DB-43D7-B7AC-1AF6503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A3C24-E98E-4D3E-8333-ADA38F50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2E89E-B8FA-4F00-BBD8-3C2A0443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86CBB-7A13-4A46-BD28-C0FE5B13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1CA28-4DFD-4DB4-A5F3-23796C22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E876F-207C-4090-935D-2AB41133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0D82B-B52D-40C8-B6D7-430136A9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8D97-7242-4525-8828-8B927044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A1448-0DBC-4DE3-B38E-864722C8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B3336-7F11-4622-84F1-AA2057F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B551DD-D8AC-4D9D-8EAC-1B65CCDE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3B12F-04C6-408A-8EF4-861D5BBC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2054C-43B1-454E-911C-61BFFEC7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7DFE8-1768-4133-A9BE-914F74AB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D7B8F-8380-4EBF-B0F5-FC156CAC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496C01-C330-4913-A9B6-1A7E1042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272F44-3A2B-42AB-8C0F-863FF00F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6ABDBC-3AB1-49E8-ACDA-B55CA98B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9769-9919-4BB2-AFAB-90B29B44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C333A-429F-4235-B45A-CB68A7C5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5B0DF5-C70F-4BCA-BF8E-DA2BDE6D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83E48A-3947-46F7-BF09-7BE5D22D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D9C3C-2469-4C7C-8E6B-31C09543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26068-33DA-4524-B8AC-09B0621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20D605-2A13-4ADE-BC1F-2980C7AA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AB11AD-D0B1-44AE-A405-3034C2F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EB569-5EA6-473B-9BF0-D5C65B9D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DB02A1-3D26-427F-B884-BE2FF59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B3C5A-D123-41FE-9000-F36EF6F1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7B9A-140C-47D4-AE23-DCEE42D4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BDEF9A-D04A-422E-BE47-16620A7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5E3A9-EEDE-4C41-9F28-6DAE94A4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8B3DC9-5FB8-4A04-A760-B100E54D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27ADFC-314B-4035-BCD9-D3746ED0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F2D1F2-9398-4064-B8CD-93A58E3B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F38393-B93F-491F-8092-E9016C76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9176F-0A1A-4658-88F3-0E96C712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51DB06-7A1D-43CB-AC4F-F7DC3058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FE38BE-8161-4A3B-B907-14998E45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EFE62-91C2-4A6B-84B9-1AECAAF0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488C-3E05-4C05-9914-FFFA0DF7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02B9FE-4194-4751-A0C1-88ABC72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F2BCE7-C6F4-4507-A0D1-C0CBB81C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83C094-5B7C-46AF-840C-7FC1C3A5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EE7DFD-CD64-490D-BE5E-3FB05EA7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5B9772-DEDC-4AB8-8155-E539F4EF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A04728-64A3-4415-92DC-D944A4AA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6ED21-F632-44B1-807F-5B7D65B3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B84956-4CA8-401B-B514-DE9EE59A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FF287-C511-4C0D-8419-96A291F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D56F9E-1702-47FE-93DC-19349688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6925-D30B-4B7A-8B60-89AF5192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F5133F-1ECF-42CC-A813-47AB6C5A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38EA4F-D475-4276-B85D-7761863D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F055D4-34FE-4F44-8AFE-D36C0124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BF6C6E-5055-4420-A7A1-826C7330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233B04-E42F-463D-99B2-4BF0685B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ABB31B-10A9-4388-80F2-0904093C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2DDFE-B03A-4AD4-8EE3-EA7AE4B5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2578-1B48-4D5E-BDB2-277869C7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718F-3777-495E-9F72-E136FED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A92-F4D3-40B9-AE27-ECCA41DC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DC4F-6933-4431-89DE-440E793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879D-1D7F-48D1-9404-24E47F3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954D-74D4-4EDF-93B0-A6AEEB10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576C-A6E0-491F-814B-4CA14A12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B424-02FB-4B81-8F42-EC68566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56C8-603B-4066-844F-648D37AD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4B75-FBAC-4CF8-B8B8-E8AB8B64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FD23-CAFD-4754-9412-193BC71B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07383-4F5B-4CAE-A7E0-65A67CD3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2F02-914A-4A0A-AFC6-307B516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442-4EAF-48D5-B9F5-FAD9D41F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578D1-68DC-49A4-85E8-9E820B1A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6A576-3B62-40A5-A789-F2A61E2A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F12B-971C-48D2-A0B4-22E4DAC0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AA042-B9BB-4E13-B82E-9589F99F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14C34-9D30-4BC3-89BF-166A4DCF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42DD-4A71-42B2-BCE6-374297B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BD1F-722F-4290-BC8D-116C7999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52B5E-964C-4198-95D8-D2C56317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E8F0-5363-44E8-B280-03A961A1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7CE8C-DB0A-4D2A-A8B3-FA77AB70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B17-F489-4886-8AE3-272CA8FE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D0F5-17B6-4AE4-84CB-EC784214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CD8FF-E7E7-4050-90AA-35214B0A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9878-D21E-4DE1-9DA5-7525CAE8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A7D6B-0263-43BF-97B4-5A15686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FA99-31AD-4C53-9962-08C91DC3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FBCC7-7760-467B-BEAC-9B205D07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38BC2-0764-4D24-9788-D30D57C9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ADCAD-B1C8-4728-B86D-A062A9F1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E5F3-8CC8-4352-82B5-1D82F599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EE187-0C47-4F38-9C5D-4146C528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E86-8F51-4C76-84A1-052D115A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5347-670C-4335-8C6E-BF2ACBC0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39312-6C90-4CB9-ABA3-9B74BD1D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5B91D-B3CC-45D5-87B1-42722356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5751-7820-4C9A-BB29-8BC1E3CC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F40A3-EC51-49E0-A6AD-0E64059E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53300-6C1E-45F0-9746-6D1430E7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EA3F7-308B-4498-A950-5862B52C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D506A-5E7C-4B1E-B7A9-CD16F31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90452-16C5-44F6-AEDD-97C07BAB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355EA-4559-4CB9-9F43-BBCCEAA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1FF-8101-406C-AA4B-6436EFFB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1B97F-3FE2-406A-84AE-5484EE94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804D-7F34-4B1D-8728-9A538811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ACDBE-CBF6-41CB-A8F1-A2087FB7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8579-8491-4CA9-8727-AB1306ED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A26F-491B-422E-B746-927901CA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C4B0-4E2C-4874-A775-93C552E4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CC4AE-C875-429B-89A0-1B5F723C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2C366-50E6-48FB-A97E-8F03009A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1103A-9CD4-44EF-A66F-2F3504F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1E6C8-70B8-49FA-88A6-50B664E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152-F8B9-4BA1-8945-5E30234E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B3B8-2837-4B81-895B-D19FBED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412FF-B599-41E2-824E-8E79A0BB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D9733-6E73-439B-AB22-EBFF7B8C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114BE-9AF1-402C-8BE9-A7755C22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56B9F-940F-4199-9457-90B9C1E7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2D8DF-5408-481D-B5AA-6FB6AB55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4BCE7-48F5-4A18-BCE5-D2BBE753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EDD82-AF17-4918-A2CB-A980BB27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4BD0B-5673-42A7-958C-75DE05D0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A1644-E2E9-49EC-9F08-06EAAE47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8A4-8382-4F67-B9E4-417DB6B8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4BE54-9109-4150-A4AD-8DEF3A9D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8E822-8673-4D15-A53E-7AFD0E2F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FB261-9F0B-4629-B2B0-B2D5C71A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904F3-5317-40B7-8BDA-5A7067C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7E24C-8D11-41B5-AC14-A854F38E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C7B32-25EC-4CCD-97EE-A3AC4FCC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40C3F-49C5-437D-AAEF-66850085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17B1B-664F-4495-A326-C51E20F4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32A1D-D318-48E5-BDA6-3DF45DB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958B0-5D0F-4F90-8A36-E6F15507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D534-FA28-4FDE-BE05-4A0B3373BF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0FD2-7548-4813-BC27-4A01374D77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1E41-F9D8-442E-8109-A894059F50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7431-CA65-4945-8739-D3B09EB8D1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6027-1A00-4BF9-9E8D-CF3CF94D89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5AB3-F0D2-491D-9165-291AB47472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F56C-8485-4718-95D4-B233E6B211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513C-3941-4829-BF20-8B0C453F1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1E82-EAF0-420D-A3B6-5F43E51E50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03EE-42EC-4B01-BBCE-7A5E54DF2A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FBB8-624E-4A46-AB61-C3DE75EC18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A274-7EE9-4595-98E9-A458646442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45B1-52F0-48BE-ABC0-112C1EFE5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712E-7486-456B-9F39-2D3215B251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9884-939E-4BF6-AF80-98277E0B12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466B-71D3-420C-A3BF-2DF4C07831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5222-717B-4124-8D59-9E9B90901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B582-46FF-4B7B-9C28-0618131A2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46B6-E8BF-42E6-B264-80CF69C81D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A365-DF29-48C2-8030-50CF64975F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5D69-0A7D-4547-B096-47C5CEE54E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D7C8-46E0-42D3-84F8-0A7DACC773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11B8-BB1D-41A5-B93B-3B2F920E90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6887-379A-475A-A1B4-A619794E1F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4D32-896B-4D1B-B875-7B3DAD559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217D-DA1E-481F-BD35-46FA05C9F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79F6-171A-4CE7-AD7F-65C13AA187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64FD-0AAD-4C11-86FD-0A5F9F60F4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E746-E5B2-4C2B-B99D-E2EEDA4195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6457-6E90-442C-9A57-2C7207386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7C9B-EEB2-45FC-80D9-1CBB580290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6A18-3760-41D4-8F36-04ABC1640D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1EEF-FEA0-4086-B4A9-3D8CE92884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AB90-FA93-4B97-9BEB-CA72C8C69A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F41A-D8C4-47BF-AF2B-BF01E26225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1A70-91ED-4078-9D34-B5871D219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3313-C0E1-49F2-9EFE-8C9E1AC74D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944C-D322-4FBD-9B21-50B7E8B2B8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265F-6E3A-4DF4-AB06-96B054AB9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89E5-C8D1-4A8D-9FD4-260E23E6E1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F661-91EA-46BA-B83C-3385347B53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4F7F-4DC6-40D6-96B6-5EE3AF790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919240" y="3086280"/>
            <a:ext cx="33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219240" y="1176480"/>
            <a:ext cx="8705520" cy="45050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900000" y="2305080"/>
            <a:ext cx="1079640" cy="4204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3276720" y="2290680"/>
            <a:ext cx="1079280" cy="4208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1619280" y="3443400"/>
            <a:ext cx="1079640" cy="4204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1042920" y="4019400"/>
            <a:ext cx="1079640" cy="4208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6"/>
          <a:stretch/>
        </p:blipFill>
        <p:spPr>
          <a:xfrm>
            <a:off x="1979640" y="5157720"/>
            <a:ext cx="266364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195120" y="1366920"/>
            <a:ext cx="8751960" cy="41241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1979640" y="1959120"/>
            <a:ext cx="936720" cy="4204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3924360" y="1944720"/>
            <a:ext cx="936720" cy="4204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1187280" y="4249800"/>
            <a:ext cx="1513080" cy="4204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971640" y="4811760"/>
            <a:ext cx="93636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2" descr=""/>
          <p:cNvPicPr/>
          <p:nvPr/>
        </p:nvPicPr>
        <p:blipFill>
          <a:blip r:embed="rId1"/>
          <a:stretch/>
        </p:blipFill>
        <p:spPr>
          <a:xfrm>
            <a:off x="243000" y="1709640"/>
            <a:ext cx="86565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23920" y="923760"/>
            <a:ext cx="869472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84320" y="816120"/>
            <a:ext cx="8665920" cy="5695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539640" y="4869000"/>
            <a:ext cx="50328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243000" y="909720"/>
            <a:ext cx="8656560" cy="50385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503280" cy="4208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611280" y="2637000"/>
            <a:ext cx="50328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35080" y="1062000"/>
            <a:ext cx="8675640" cy="473400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2" descr=""/>
          <p:cNvPicPr/>
          <p:nvPr/>
        </p:nvPicPr>
        <p:blipFill>
          <a:blip r:embed="rId2"/>
          <a:stretch/>
        </p:blipFill>
        <p:spPr>
          <a:xfrm>
            <a:off x="1905120" y="5737320"/>
            <a:ext cx="4943520" cy="5140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503280" cy="4208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611280" y="3429000"/>
            <a:ext cx="5032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1" descr=""/>
          <p:cNvPicPr/>
          <p:nvPr/>
        </p:nvPicPr>
        <p:blipFill>
          <a:blip r:embed="rId1"/>
          <a:stretch/>
        </p:blipFill>
        <p:spPr>
          <a:xfrm>
            <a:off x="219240" y="2309760"/>
            <a:ext cx="8705520" cy="22384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5032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285840" y="895320"/>
            <a:ext cx="8572320" cy="50673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826920" y="2017800"/>
            <a:ext cx="1152720" cy="4204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3708360" y="2046240"/>
            <a:ext cx="1152720" cy="4208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826920" y="3198960"/>
            <a:ext cx="1081080" cy="4204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2340000" y="3170160"/>
            <a:ext cx="2160720" cy="4208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900000" y="4321080"/>
            <a:ext cx="1081080" cy="4208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7"/>
          <a:stretch/>
        </p:blipFill>
        <p:spPr>
          <a:xfrm>
            <a:off x="5003640" y="4321080"/>
            <a:ext cx="2521080" cy="4208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8"/>
          <a:stretch/>
        </p:blipFill>
        <p:spPr>
          <a:xfrm>
            <a:off x="1042920" y="5473800"/>
            <a:ext cx="2521080" cy="4204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9"/>
          <a:stretch/>
        </p:blipFill>
        <p:spPr>
          <a:xfrm>
            <a:off x="5249880" y="5459400"/>
            <a:ext cx="10810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162000" y="128520"/>
            <a:ext cx="8820000" cy="66009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1619280" y="720720"/>
            <a:ext cx="2808360" cy="4208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1763640" y="1844640"/>
            <a:ext cx="2087640" cy="4208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1619280" y="6237360"/>
            <a:ext cx="34574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4:2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